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900-E97E-4B2C-B116-C1B39877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5E0-CEE3-4BCE-A2CF-0BC8569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82F-960C-4EAD-9D7E-0A53261E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6C1-34EB-49BD-B9D5-DBCB3EF2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B407-5819-4C85-951E-03CE5531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16C6-CCEF-42F5-AE20-15035185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6CDF-10B6-4200-B154-4C91906B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8EC8-380C-4CC0-94C3-6DB1B47D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269-3BC3-4FF1-B389-D464896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D9B2-6599-49D3-90AD-73BAF60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90B-1CD5-424C-ADFF-96DCCFA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2CB-822D-4727-BDB8-59EB56F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0752-3B29-4FBA-B838-94468E5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F06A-40F8-4105-83B1-C6C6BAF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866D-EC14-4B47-A26E-A7E93A2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E6C6-14DA-451C-84B9-FF72A5B7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7168-288A-4031-9320-97FE0CAA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C2A-C590-41FC-9042-4091A79A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2D4-DD0B-48D7-B63C-B438324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EB1-F1F9-471E-A5AD-C3DBA0F4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60B-75DE-4654-8026-CB3E7676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EED-C07F-4166-9062-A394CAA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DDC-6433-40DA-A401-BDBE680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52A-9604-4CC0-9544-0522311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819F-FB84-4D9B-BB5E-836C0E0A4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955B-3D6A-4D60-88BC-1AD5680F4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 20 - 24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heritance of the Levites an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Land Promise Fulfilled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rter 3; Lesson 7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ges 42 -48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 the Days of the Judges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Challenge To Israel (24:14-25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…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hoose you this day whom ye serve; whether the gods which your fathers served that were on the other side of the flood, or the gods of the Amorites in whose land ye dwell: but as for me and my house, we will serve the Lord.” (24:1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srael’s response: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God forbid that we should forsake the Lord, to serve other gods; for....” (24:16-2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ath of Joshua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29-3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ge 11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Timnath-serah, his inheritance in the hill-country of Ephraim – the city he buil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ones of Joseph Burie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2-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eph had requested that his bones be carried from Egypt (Gen. 50:2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took his bones out of Egypt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Ex. 13:1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w, his bones are buried in Shechem, in land bought by his father (Gen. 24:3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Shechem was in the territory of Ephraim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leazar Die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a hill that belonged to Phinehas his son in Ephra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943600" y="1371600"/>
            <a:ext cx="2514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3657600"/>
            <a:ext cx="1981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50532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14300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ities of Refuge (20:1-9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943600"/>
            <a:ext cx="2971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172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at was their purpo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09720" y="2286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heritance of the Levites (21:1 - 21:42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ities of the Levit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0:1-4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many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886200"/>
            <a:ext cx="37339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Lord gave them peac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 God’s promises to Israel came to pa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2004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nd Promise Fulfilled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400" y="3805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ities of the Levit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54100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41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Trans-Jordanic Tribes Return Home (22:1-34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hua calls the Reubenites, Gadites and the half tribe of Manasseh togeth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commands them to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 heed to the law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ve the Lord your Go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alk in all His w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eep His commandm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leave to Hi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ve Him with all your heart and all your sou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Trans-Jordanic Tribes Return Home (22:1-34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departing soldiers antagonize the rest of Israel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22:10-3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built a great altar by Jordan River (22:1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srael gathered to make war against these soldiers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22:11-1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inehas and 10 leaders of the tribes sent to confront these soldiers (22:13-2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soldiers explain their action (22:21-2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inehas and the leaders were satisfied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22:30-3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Charge to the Leaders of Israel  (23:1-16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 courageous and keep all the commandments (23: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 not go among the nations that remain (23: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ke heed to love the Lord your God (23:1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f you mix with these nations, you shall perish from the land (23:12-1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 am going in all the ways of the earth” (23:1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warning if they forsake God (23:15-1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ancestors (Terah) served other go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brought Abraham from beyond the Euphrates to the land of Cana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multiplied his nation through Isaac and then though Jaco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acob and his children went down to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and Aaron sent to deliver them, and God plagued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brought Israel out of Egypt and across the Red Sea; and destroyed the Egypti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dwelt in the wilderness a long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Amorites were delivered to them and they took their lan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alak, king of Moab, fought against Israel but God blessed th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crossed the Jordan River and God delivered all of the nations of Canaan into their ha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gave them land they did not have to work for, cities they did not build, vineyards and olive-yards they did not pla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5-01-26T20:21:24Z</dcterms:modified>
  <cp:revision>25</cp:revision>
  <dc:subject/>
  <dc:title>Joshua 20 - 24 Inheritance for the Levites</dc:title>
</cp:coreProperties>
</file>